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9F02-2CFD-48F9-B6CA-400C8B106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728C-0E93-489F-A0FE-153EEC57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FC12-53D0-470A-B872-50C6FF486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9A2C-930D-4BE6-82B3-75B47704A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63D7-B4B1-4CBC-80E4-0CDB8290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E853-7762-4F02-9062-A8266C92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6823-81C7-4266-9C73-169A0D8F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7241-99ED-4158-BC7D-2EAC27B3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494F-7E02-41DA-9F22-CFD4D7DA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0B1D-674E-4600-A6F7-86AC252D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AD52-59FE-4B44-BC20-D71AEED6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C0CF-E849-40D8-9B79-04A1C8E6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9848-B84C-4194-BE3D-790185FF95E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8960" y="1523520"/>
            <a:ext cx="6553080" cy="18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ONSE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COLD W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99840" y="388620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pter 2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e of Covert A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440" y="2133360"/>
            <a:ext cx="762012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ntral Intelligence Agency (CIA) used to achieve covert objectiv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ran: CIA restored the shah to power after democratic el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uatemala: CIA ousts leftist gover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tern Europe: Refused to help East Germans or Hungari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ontinuing Cold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tober, 1957: Russians launch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putni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, 1960: U-2 incident cancelled plans for summit on new Berlin Crisis (Between Krushchev and Eisenhow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nuary, 1961: Eisenhower warned against growing military-industrial compl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clear test ban trea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.S. and U.S.S.R. agreed to suspend  nuclear testing in the atmosp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old War Begin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s Dividing U.S. and U.S.S.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905120"/>
            <a:ext cx="8534160" cy="46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ntrol of postwar Europe (post 1945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ussians occupied eastern Europe (buffer zone) creating satellite n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.S. demanded national self-determination (free elections) throughout Euro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conomic ai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DR denied Russia aid at the end of war (relations will sou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shall Plan of 1948 (Russia refused aid) was developed to rebuild Europe (mostly Western Europ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uclear disarmam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946 USSR wanted immediate abolition while U.S. wanted gradual reduction (Baruch Plan-U.S. control over inspection of nuclear weapons in the worl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viets were working on developing nuclear capabilit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ain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4560" y="15235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call for “containment of Russia’s expansive tendencies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ruman Doctrine was to support free peoples who are resisting communism (Greece and Turke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 informal declaration of cold war against the Soviet Union and expansion of communism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velopment of NS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partment of Defense unified armed forc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entral Intelligence Agency crea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ational Security Council advises preside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d War Exp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947: U.S.-Russian arms race accelerat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949: First Russian atomic bomb exploded, U.S. began hydrogen bomb develop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Berlin Blocka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948: Russians blockade of Berl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ruman ordered airlift to supply the c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Western Military Alli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949: North Atlantic Treaty Organization (NATO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ilitary alliance included U.S., Canada, most of western Europ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flict Expands into As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945: U.S. consolidates hold on Japan, former Japanese possessions in Pacif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949: Civil War in China leads to victory for Mao Tse-tung (communism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sult in U.S. concentration on areas around China (Japa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950: Communist North Korean forces invaded U.S.-influenced South Kore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ar results into a stalemate keeping division at 3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paralle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sult is U.S. military build up and concentration all over the wor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Loyalty Issue and McCarthyis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use Un-American Activities Committee (HUAC) investigated Communist subversion in gover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uman responded with loyalty progra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ger Hiss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mocrats blamed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sing" China to Communis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ussia's development of a hydrogen bom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950: Senator Joseph McCarthy launched anticommunist campaign (Second Red Sca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nocent overwhelmed by accusa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954: Attack on Army discredited McCarthy who is then censu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lection of 195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DIVI7233TB2801"/>
          <p:cNvPicPr/>
          <p:nvPr/>
        </p:nvPicPr>
        <p:blipFill>
          <a:blip r:embed="rId2"/>
          <a:srcRect l="0" t="20294" r="0" b="0"/>
          <a:stretch/>
        </p:blipFill>
        <p:spPr>
          <a:xfrm>
            <a:off x="380880" y="2895480"/>
            <a:ext cx="77724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Republicans/Eisenhower in Po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90512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52: Eisenhower captures White House for Republican Par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ds Korean W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isenhower “new look” policy relied on massive retaliation to deter Soviet attac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isenhower W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old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15238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tanglement in Indoch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ctory of Communist Ho Chi Minh in Vietnam over Fr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etnam divided 1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arallel (election postponed to unite n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uth Vietnam under U.S. puppet reg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aining Ch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ugh line against China over Taiw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rove wedge between China, Russ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urmoil in the Middle E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ez Canal Crisis (Egypt/Soviet Union vs. France/Britain/Israel/U.S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isenhower won Middle East trust by pressuring English, French withdraw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3:40:12Z</dcterms:created>
  <dc:creator>CMU</dc:creator>
  <dc:description/>
  <cp:keywords/>
  <dc:language>en-US</dc:language>
  <cp:lastModifiedBy>Thaddeus J. Brooks</cp:lastModifiedBy>
  <cp:lastPrinted>2012-04-19T01:07:11Z</cp:lastPrinted>
  <dcterms:modified xsi:type="dcterms:W3CDTF">2013-10-28T14:19:53Z</dcterms:modified>
  <cp:revision>33</cp:revision>
  <dc:subject/>
  <dc:title>CHAPTER 28 THE ONSET OF THE COLD WAR</dc:title>
</cp:coreProperties>
</file>